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D95-1F4E-4EC9-9F7F-7E2725A6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3E5-4BFC-4FA5-B125-B82DDE8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95D-493D-417D-BFB5-10DDF56A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589-9388-4C5E-BF6B-756EE85B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9D4-C314-4DD3-AB6C-4DAC939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F8B-E054-48F5-9F87-4C0F953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1BC-20D3-48EA-8E97-09A42F0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162-979F-431C-8EE5-E2602CE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B1C-9DE5-4062-9372-0E40FD96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A7D-918C-4A93-8046-9608AEE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E1D-7027-4901-BB73-A0019EC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347-2635-46EA-976F-80A94C7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FCA-0FCF-4039-A1E9-7E95584F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tutorvista.com/.../protective-tissues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tutorvista.com/content/plant-water-relations/stomatal-movement--dicot-plants.jpe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M K8 Lab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stimating # of Stomata in a Lettuce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isa M.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y pores located on bottom of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al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 little bit like cat e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kidney-shaped cells (guard cells) are found on each side of the s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loroplasts are also found in the guard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ase extra water from the lea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alled transpir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in carbon diox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as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 cells swell &amp; shrink to control the opening &amp; closing of 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loroplasts within guard cells carry out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059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the next slide to view a video that explains and shows the function of stoma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achin joshi _ botany student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09800" y="649116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nas.org/content/101/4/918/F1.lar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95680" y="2286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8600" y="3049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X 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agnified section of the leaf you see in figure b. Notice there are about 18 sto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00600" y="3049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      40X 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nderside of a leaf         (not enough magnification to see the stoma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omic Sans MS"/>
              </a:rPr>
              <a:t>This picture also shows the lettuce leaf’s lower epidermis (~400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5181480"/>
            <a:ext cx="86868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Comic Sans MS"/>
              </a:rPr>
              <a:t>The labeled parts are what you will identify in l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toma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000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990720" y="4876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ma.ohio-state.edu/biology/images/stom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Leaf Epidermis (~1000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 shows a plant leaf’s lower epidermis under the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carefully at the labeled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e are the parts that you will label during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urface view of stomata "/>
          <p:cNvPicPr/>
          <p:nvPr/>
        </p:nvPicPr>
        <p:blipFill>
          <a:blip r:embed="rId1"/>
          <a:stretch/>
        </p:blipFill>
        <p:spPr>
          <a:xfrm>
            <a:off x="152280" y="1523880"/>
            <a:ext cx="5105520" cy="458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22860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utorvista.com/.../protective-tissues.php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Labeled diagram of stomata 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&amp; surrounding guard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tomatal-movement--dicot-plant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225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0" y="617220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.tutorvista.com/content/plant-water-relations/stomatal-movement--dicot-plants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38:13Z</dcterms:created>
  <dc:creator>LClark</dc:creator>
  <dc:description/>
  <dc:language>en-US</dc:language>
  <cp:lastModifiedBy>clark</cp:lastModifiedBy>
  <dcterms:modified xsi:type="dcterms:W3CDTF">2010-01-13T02:17:23Z</dcterms:modified>
  <cp:revision>8</cp:revision>
  <dc:subject/>
  <dc:title>Slide 1</dc:title>
</cp:coreProperties>
</file>